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PROJCTOR.WAV" ContentType="audio/x-wav"/>
  <Override PartName="/ppt/media/GUNSHOT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DRIVEBY.WAV" ContentType="audio/x-wav"/>
  <Override PartName="/ppt/media/image16.wmf" ContentType="image/x-wmf"/>
  <Override PartName="/ppt/media/image15.wmf" ContentType="image/x-wmf"/>
  <Override PartName="/ppt/media/LASER.WAV" ContentType="audio/x-wav"/>
  <Override PartName="/ppt/media/image14.wmf" ContentType="image/x-wmf"/>
  <Override PartName="/ppt/media/image24.wmf" ContentType="image/x-wmf"/>
  <Override PartName="/ppt/media/CAMERA.WAV" ContentType="audio/x-wav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25.wmf" ContentType="image/x-wmf"/>
  <Override PartName="/ppt/media/CHIMES.WAV" ContentType="audio/x-wav"/>
  <Override PartName="/ppt/media/image28.wmf" ContentType="image/x-wmf"/>
  <Override PartName="/ppt/media/image30.wmf" ContentType="image/x-wmf"/>
  <Override PartName="/ppt/media/image26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27.wmf" ContentType="image/x-wmf"/>
  <Override PartName="/ppt/media/image34.wmf" ContentType="image/x-wmf"/>
  <Override PartName="/ppt/media/image4.wmf" ContentType="image/x-wmf"/>
  <Override PartName="/ppt/media/image29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DRUMROLL.WAV" ContentType="audio/x-wav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EXPLODE.WAV" ContentType="audio/x-wav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339-7CC8-47F2-BAAA-7851C2CC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FAC-52BB-47C2-AFA2-5449E45A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1C8-8527-408F-8FA1-75C2B5F4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0B4-CDEB-48B0-A4BE-5370A35B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EB7-0326-48D5-920E-5A55F08A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73E-7A37-42C0-8C1D-05A79945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14D-79F2-4036-8268-5E8CAC69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467-851C-4D38-A603-0D8596ED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2D5-91C5-4AAB-A479-825EFE7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08C-BFE0-4CFA-9B1F-DCAFE67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4BB-1CD2-498C-A683-B924752B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6A2-151E-4356-A1F8-2F6C51D1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9C5B-E184-4948-B3A6-25C3D5742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DRIVEBY.WAV"/><Relationship Id="rId21" Type="http://schemas.openxmlformats.org/officeDocument/2006/relationships/audio" Target="../media/EXPLODE.WAV"/><Relationship Id="rId22" Type="http://schemas.openxmlformats.org/officeDocument/2006/relationships/audio" Target="../media/DRIVEBY.WAV"/><Relationship Id="rId23" Type="http://schemas.openxmlformats.org/officeDocument/2006/relationships/audio" Target="../media/EXPLODE.WAV"/><Relationship Id="rId24" Type="http://schemas.openxmlformats.org/officeDocument/2006/relationships/audio" Target="../media/GUNSHOT.WAV"/><Relationship Id="rId25" Type="http://schemas.openxmlformats.org/officeDocument/2006/relationships/audio" Target="../media/LASER.WAV"/><Relationship Id="rId26" Type="http://schemas.openxmlformats.org/officeDocument/2006/relationships/audio" Target="../media/CAMERA.WAV"/><Relationship Id="rId27" Type="http://schemas.openxmlformats.org/officeDocument/2006/relationships/audio" Target="../media/GUNSHOT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audio" Target="../media/DRUMROLL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audio" Target="../media/DRUMROLL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2209680"/>
          <a:ext cx="46990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6990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066680" y="2819520"/>
          <a:ext cx="18525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819520"/>
                    <a:ext cx="18525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447920" y="3429000"/>
          <a:ext cx="67788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67788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57200" y="4038480"/>
          <a:ext cx="4471920" cy="139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038480"/>
                    <a:ext cx="4471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143000" y="5365800"/>
          <a:ext cx="898560" cy="14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5365800"/>
                    <a:ext cx="89856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209680" y="5791320"/>
          <a:ext cx="98136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9680" y="5791320"/>
                    <a:ext cx="981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6240" y="2209680"/>
          <a:ext cx="497016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2209680"/>
                    <a:ext cx="49701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990720" y="2895480"/>
          <a:ext cx="2031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895480"/>
                    <a:ext cx="2031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523880" y="3581280"/>
          <a:ext cx="5716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581280"/>
                    <a:ext cx="571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2200" y="4376880"/>
          <a:ext cx="4743360" cy="71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2200" y="4376880"/>
                    <a:ext cx="47433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990720" y="5257800"/>
          <a:ext cx="149220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5257800"/>
                    <a:ext cx="14922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468440" y="5867280"/>
          <a:ext cx="482760" cy="64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68440" y="5867280"/>
                    <a:ext cx="4827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the expression for the given value of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2193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Evalu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s replace the variable by a number and work it out using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04920" y="1981080"/>
          <a:ext cx="4790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4790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914400" y="3200400"/>
          <a:ext cx="180504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18050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819520" y="3657600"/>
          <a:ext cx="9666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3657600"/>
                    <a:ext cx="966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80880" y="4800600"/>
          <a:ext cx="424656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800600"/>
                    <a:ext cx="42465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022400" y="5410080"/>
                <a:ext cx="10843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1106640" y="6210360"/>
          <a:ext cx="861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6640" y="6210360"/>
                    <a:ext cx="861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371600" y="3429000"/>
          <a:ext cx="1353960" cy="13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3429000"/>
                    <a:ext cx="13539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 flipV="1">
            <a:off x="914400" y="41148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4114800"/>
          <a:ext cx="355320" cy="53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520" y="4114800"/>
                    <a:ext cx="3553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V="1">
            <a:off x="1600200" y="365760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40000" y="3352680"/>
          <a:ext cx="399960" cy="53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40000" y="3352680"/>
                    <a:ext cx="399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imple interest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mple Inter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rinciple)(Rate)(Time)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996633"/>
                </a:solidFill>
                <a:latin typeface="Times New Roman"/>
              </a:rPr>
              <a:t>P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38080" y="3352680"/>
                <a:ext cx="52531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95280" y="4191120"/>
                <a:ext cx="2102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2133720" y="3429000"/>
          <a:ext cx="94284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29000"/>
                    <a:ext cx="9428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1981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You deposit $250 in a bank account that pay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nual  interest rate of 2%. How much si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est will you earn after two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43200" y="3429000"/>
          <a:ext cx="11239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3429000"/>
                    <a:ext cx="11239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38640" y="3429000"/>
          <a:ext cx="44784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8640" y="3429000"/>
                    <a:ext cx="4478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352680" y="4343400"/>
          <a:ext cx="122256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343400"/>
                    <a:ext cx="1222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438280" y="5181480"/>
          <a:ext cx="1069920" cy="71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5181480"/>
                    <a:ext cx="10699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imple interest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mple Inter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rinciple)(Rate)(Time) 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996633"/>
                </a:solidFill>
                <a:latin typeface="Times New Roman"/>
              </a:rPr>
              <a:t>P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63720" y="3313080"/>
                <a:ext cx="4744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2133720" y="3429000"/>
          <a:ext cx="94284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429000"/>
                    <a:ext cx="9428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19810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You deposit $140 in a bank account that pay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nual  interest rate of 3.5%. How much si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est will you earn after one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29000" y="3429000"/>
          <a:ext cx="135576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429000"/>
                    <a:ext cx="1355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183280" y="3429000"/>
          <a:ext cx="35712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3429000"/>
                    <a:ext cx="3571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47920" y="4191120"/>
          <a:ext cx="14270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4191120"/>
                    <a:ext cx="1427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676520" y="4876920"/>
          <a:ext cx="1536480" cy="71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4876920"/>
                    <a:ext cx="1536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stance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st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Rate)(Ti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00200" y="3276720"/>
          <a:ext cx="218268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276720"/>
                    <a:ext cx="218268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733920" y="3352680"/>
          <a:ext cx="142704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14270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666880" y="3581280"/>
          <a:ext cx="94320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581280"/>
                    <a:ext cx="9432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If you are driving at a constant rate of 60 miles p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, how long will it take you to travel 270 mi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4114800"/>
          <a:ext cx="67788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114800"/>
                    <a:ext cx="677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981080" y="4800600"/>
          <a:ext cx="3071880" cy="15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4800600"/>
                    <a:ext cx="30718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304920" y="990720"/>
            <a:ext cx="4167000" cy="1395360"/>
            <a:chOff x="304920" y="990720"/>
            <a:chExt cx="4167000" cy="1395360"/>
          </a:xfrm>
        </p:grpSpPr>
        <p:graphicFrame>
          <p:nvGraphicFramePr>
            <p:cNvPr id="139" name=""/>
            <p:cNvGraphicFramePr/>
            <p:nvPr/>
          </p:nvGraphicFramePr>
          <p:xfrm>
            <a:off x="1905120" y="990720"/>
            <a:ext cx="2566800" cy="1395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05120" y="990720"/>
                      <a:ext cx="256680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304920" y="990720"/>
            <a:ext cx="1890720" cy="1395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4920" y="990720"/>
                      <a:ext cx="189072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" name=""/>
          <p:cNvGrpSpPr/>
          <p:nvPr/>
        </p:nvGrpSpPr>
        <p:grpSpPr>
          <a:xfrm>
            <a:off x="4572000" y="1295280"/>
            <a:ext cx="4343400" cy="901800"/>
            <a:chOff x="4572000" y="1295280"/>
            <a:chExt cx="4343400" cy="901800"/>
          </a:xfrm>
        </p:grpSpPr>
        <p:sp>
          <p:nvSpPr>
            <p:cNvPr id="144" name=""/>
            <p:cNvSpPr/>
            <p:nvPr/>
          </p:nvSpPr>
          <p:spPr>
            <a:xfrm>
              <a:off x="5867280" y="12952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2200" y="16765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R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0" y="14479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ime 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1752480"/>
              <a:ext cx="13716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V="1">
            <a:off x="1981080" y="13712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14600" y="205704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00040" y="3505320"/>
            <a:ext cx="30492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each using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stance formu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ist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Rate)(Tim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76440" y="3276720"/>
          <a:ext cx="223200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3276720"/>
                    <a:ext cx="223200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514600" y="4952880"/>
          <a:ext cx="92088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952880"/>
                    <a:ext cx="92088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32240" y="3581280"/>
          <a:ext cx="121428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2240" y="3581280"/>
                    <a:ext cx="1214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2514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   Find the average speed for an airplane traveling 21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les in 6 hou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57400" y="4114800"/>
          <a:ext cx="40032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7400" y="4114800"/>
                    <a:ext cx="400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76720" y="4876920"/>
          <a:ext cx="4505040" cy="81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4876920"/>
                    <a:ext cx="450504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304920" y="990720"/>
            <a:ext cx="4167000" cy="1395360"/>
            <a:chOff x="304920" y="990720"/>
            <a:chExt cx="4167000" cy="1395360"/>
          </a:xfrm>
        </p:grpSpPr>
        <p:graphicFrame>
          <p:nvGraphicFramePr>
            <p:cNvPr id="166" name=""/>
            <p:cNvGraphicFramePr/>
            <p:nvPr/>
          </p:nvGraphicFramePr>
          <p:xfrm>
            <a:off x="1905120" y="990720"/>
            <a:ext cx="2566800" cy="1395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905120" y="990720"/>
                      <a:ext cx="256680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304920" y="990720"/>
            <a:ext cx="1890720" cy="1395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04920" y="990720"/>
                      <a:ext cx="1890720" cy="13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4572000" y="1295280"/>
            <a:ext cx="4343400" cy="901800"/>
            <a:chOff x="4572000" y="1295280"/>
            <a:chExt cx="4343400" cy="901800"/>
          </a:xfrm>
        </p:grpSpPr>
        <p:sp>
          <p:nvSpPr>
            <p:cNvPr id="171" name=""/>
            <p:cNvSpPr/>
            <p:nvPr/>
          </p:nvSpPr>
          <p:spPr>
            <a:xfrm>
              <a:off x="5867280" y="129528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Di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72200" y="167652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0" y="14479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Rate 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43600" y="1752480"/>
              <a:ext cx="13716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V="1">
            <a:off x="2971800" y="13712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14600" y="2057040"/>
            <a:ext cx="1066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4-09-11T20:23:32Z</dcterms:modified>
  <cp:revision>13</cp:revision>
  <dc:subject/>
  <dc:title>No Slide Title</dc:title>
</cp:coreProperties>
</file>